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wmf" ContentType="image/x-wmf"/>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6713E-A781-491D-A125-94464F06C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76818-57E7-4975-94FB-633F77450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4E4EE-C1B6-48BC-A129-D2E297964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2061A-D7ED-4E72-9D5A-4F9DDBE37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34D47-80D1-429C-A3B1-48415EF79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E70DF-1AC5-4810-ABBC-0DE8F4969D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6B6E6-CF39-41A0-B760-8B56BD1F4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04DB9-B0E5-4C1C-B734-087BD56C4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4E571-EDFF-4075-A5B8-B5336ED60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064AA-9362-4B42-9068-34298C67A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C6772-2F96-46A2-8478-62278C6DE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33DDB-F428-47BB-8C8E-4DC98282B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97359-E814-4BF3-AB00-EE64478C0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64A26-576E-4352-BF9F-070F39AEE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CB988-CA66-4C23-973C-2ED9F6638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271A1-CEF3-4C39-B7ED-A98D414CA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2E587-3A68-4699-8D15-C15AC886C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5EB8D-39A4-42B6-8B35-268D04459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E6350-7836-4485-B71B-0E5BF27FE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E3035-52BE-4F37-94F0-0FD1279E9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513D0-764C-4165-B17D-199AC6060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0DD87-9AA1-4B31-BFB4-1DE0B273C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486D4-DA4F-44AE-B92F-1081B6A2B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4EB49-08EE-43AC-B0FC-816E1C059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05C9-2F43-446B-9AA2-FD64E21D12BD}"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3265-9D6A-422A-91ED-D8912B3AF0E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ELLEKLER</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Örneğin 100 Mhz 32 bit veriyolu teorik olarak 4 byte (32 bit = 4 byte) veriyi saniyede 100 milyon kere gönderebilirken, 66 Mhz 16 bit veriyolu 2 byte'lık bir veriyi saniyede 66 milyon kere gönderebilir. Eğer basit bir hesap yaparsak işlemcinin 16 bit'ten 32 bit'e çıkması ve veri yolu hızının 66 Mhz'den 100 Mhz'ye çıkması işlemciye verinin 4 kat fazla ulaşması anlamına gelir (400 milyon byte yerine, 132 milyon byt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M</a:t>
            </a:r>
            <a:endParaRPr b="0" lang="en-US" sz="4400" spc="-1" strike="noStrike">
              <a:solidFill>
                <a:srgbClr val="ffffcc"/>
              </a:solidFill>
              <a:latin typeface="Tahoma"/>
            </a:endParaRPr>
          </a:p>
        </p:txBody>
      </p:sp>
      <p:pic>
        <p:nvPicPr>
          <p:cNvPr id="102" name="" descr=""/>
          <p:cNvPicPr/>
          <p:nvPr/>
        </p:nvPicPr>
        <p:blipFill>
          <a:blip r:embed="rId1"/>
          <a:stretch/>
        </p:blipFill>
        <p:spPr>
          <a:xfrm>
            <a:off x="755640" y="2924280"/>
            <a:ext cx="3402000" cy="1998720"/>
          </a:xfrm>
          <a:prstGeom prst="rect">
            <a:avLst/>
          </a:prstGeom>
          <a:ln w="0">
            <a:noFill/>
          </a:ln>
        </p:spPr>
      </p:pic>
      <p:pic>
        <p:nvPicPr>
          <p:cNvPr id="103" name="" descr=""/>
          <p:cNvPicPr/>
          <p:nvPr/>
        </p:nvPicPr>
        <p:blipFill>
          <a:blip r:embed="rId2"/>
          <a:stretch/>
        </p:blipFill>
        <p:spPr>
          <a:xfrm>
            <a:off x="4427640" y="2492280"/>
            <a:ext cx="4392360" cy="295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M</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RAM</a:t>
            </a:r>
            <a:r>
              <a:rPr b="1" lang="tr-TR" sz="2800" spc="-1" strike="noStrike">
                <a:solidFill>
                  <a:srgbClr val="ffffff"/>
                </a:solidFill>
                <a:latin typeface="Tahoma"/>
              </a:rPr>
              <a:t>; </a:t>
            </a:r>
            <a:r>
              <a:rPr b="0" lang="tr-TR" sz="2800" spc="-1" strike="noStrike">
                <a:solidFill>
                  <a:srgbClr val="ffffff"/>
                </a:solidFill>
                <a:latin typeface="Tahoma"/>
              </a:rPr>
              <a:t>işletim sisteminin, çalışan uygulama programlarının veya kullanılan verinin işlemci tarafından hızlı bir biçimde erişebildiği yerdir.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RAM, bilgisayarlardaki CD-ROM, disket sürücü veya sabit disk gibi depolama birimlerinden daha hızlıdır. Bilgisayar, çalıştığı sürece RAM faaliyetini devam ettirir; bilgisayar kapandığı zaman ise RAM'de o an depolanmış olan veriler silini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AM</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RAM’ler birbirinden tamamen bağımsız hücrelerden oluşur. Bu hücrelerin her birinin kendine ait sayısal bir adresi vardır. Her hücrenin çift yönlü bir çıkışı vardır. Bu çıkış veri yolunda (Data Bus) mikroişlemciye bağlıdır.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u adresleme yöntemiyle RAM’deki herhangi bir bellek hücresine istenildiği anda diğerlerinden tamamen bağımsız olarak erişilebilir. İşte rastgele erişimli bellek adı da buradan gelmektedir. RAM’de istenen kayda ya da hücreye anında erişilebilir.</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cc"/>
              </a:solidFill>
              <a:latin typeface="Tahoma"/>
            </a:endParaRPr>
          </a:p>
        </p:txBody>
      </p:sp>
      <p:sp>
        <p:nvSpPr>
          <p:cNvPr id="109" name="PlaceHolder 2"/>
          <p:cNvSpPr>
            <a:spLocks noGrp="1"/>
          </p:cNvSpPr>
          <p:nvPr>
            <p:ph/>
          </p:nvPr>
        </p:nvSpPr>
        <p:spPr>
          <a:xfrm>
            <a:off x="395280" y="1844640"/>
            <a:ext cx="8229600" cy="4495680"/>
          </a:xfrm>
          <a:prstGeom prst="rect">
            <a:avLst/>
          </a:prstGeom>
          <a:noFill/>
          <a:ln w="0">
            <a:noFill/>
          </a:ln>
        </p:spPr>
        <p:txBody>
          <a:bodyPr lIns="90000" rIns="90000" tIns="46800" bIns="46800" anchor="t">
            <a:normAutofit/>
          </a:bodyPr>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RAM (Static Random Access Memory-Statik Rastgele Erişimli Bellek)</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RAM ( Dynamic Ramdom Access Memory-Dinamik Rastgele Erişimli Hafıza)</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FPM DRAM (Fast Page Mode DRAM-Hızlı Sayfa Modu DRAM)</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EDO DRAM (Extended Data Out–Genişletilmiş Veri Çıkışı)</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DRAM (Senkronize DRAM)</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DR SDRAM (Double Data Rate SDRAM)</a:t>
            </a:r>
            <a:endParaRPr b="0" lang="en-US" sz="2400" spc="-1" strike="noStrike">
              <a:solidFill>
                <a:srgbClr val="ffffff"/>
              </a:solidFill>
              <a:latin typeface="Tahoma"/>
            </a:endParaRPr>
          </a:p>
          <a:p>
            <a:pPr marL="609480" indent="-609480">
              <a:lnSpc>
                <a:spcPct val="9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RD RAM ( Direct Rambus DRAM)</a:t>
            </a:r>
            <a:endParaRPr b="0" lang="en-US" sz="2400" spc="-1" strike="noStrike">
              <a:solidFill>
                <a:srgbClr val="ffffff"/>
              </a:solidFill>
              <a:latin typeface="Tahoma"/>
            </a:endParaRPr>
          </a:p>
          <a:p>
            <a:pPr marL="60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10" name=""/>
          <p:cNvSpPr/>
          <p:nvPr/>
        </p:nvSpPr>
        <p:spPr>
          <a:xfrm>
            <a:off x="1332000" y="404640"/>
            <a:ext cx="6696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YARI İLETKEN ÖZELİKLERİNE GÖRE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AM BELLEK ÇEŞİTLER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RAM</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RAM, DRAM’den daha hızlı ve daha güvenilir olan, ama onun kadar yaygın olmayan bir hafıza çeşididir.</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RAM’lere statik denmesinin sebebi, DRAM’lerin ihtiyaç duyduğu tazeleme operasyonuna ihtiyaç duymamalarıdır; çünkü elektronik yükü DRAM’daki gibi orijinal konumunda tutan bir depolama hücresi esasına dayanmayıp, akımın belli bir yönde sürekli taşınması prensibine göre çalışırlar. SRAM’ler-genellikle-sadece ön hafıza (cache) olarak kullanılı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RAM</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t>
            </a:r>
            <a:r>
              <a:rPr b="0" lang="tr-TR" sz="2800" spc="-1" strike="noStrike">
                <a:solidFill>
                  <a:srgbClr val="ffffff"/>
                </a:solidFill>
                <a:latin typeface="Tahoma"/>
              </a:rPr>
              <a:t>Rastgele erişim” ifadesi, bilgisayarın işlemcisini hafızanın ya da verinin tutulduğu bölgenin herhangi bir noktasına direkt olarak erişebileceğini belirtmek için kullanılır.</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Bu tür hafızalar veriyi tutabilmek için sabit elektrik akımına ihtiyaç duyarlar. Bu yüzden depolama hücrelerinin her saniyede yüzlerce kez ya da her birkaç milisaniyede bir tazelenmesi yani elektronik yüklerle yeniden yüklenmesi gerekir. DRAM’in doğasındaki dinamiklik buradan gelmektedi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RAM</a:t>
            </a:r>
            <a:endParaRPr b="0" lang="en-US" sz="4400" spc="-1" strike="noStrike">
              <a:solidFill>
                <a:srgbClr val="ffffcc"/>
              </a:solidFill>
              <a:latin typeface="Tahoma"/>
            </a:endParaRPr>
          </a:p>
        </p:txBody>
      </p:sp>
      <p:pic>
        <p:nvPicPr>
          <p:cNvPr id="116" name="" descr=""/>
          <p:cNvPicPr/>
          <p:nvPr/>
        </p:nvPicPr>
        <p:blipFill>
          <a:blip r:embed="rId1"/>
          <a:stretch/>
        </p:blipFill>
        <p:spPr>
          <a:xfrm>
            <a:off x="611280" y="1773360"/>
            <a:ext cx="7993080" cy="43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RAM’lerin bellek tasarımcılarına çekici gelmesinin, özellikle de bellek büyük olduğu zaman, çeşitli nedenleri vardır. En önemli üç nedeni şöyle sıralayabiliriz:</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1. </a:t>
            </a:r>
            <a:r>
              <a:rPr b="0" i="1" lang="tr-TR" sz="2400" spc="-1" strike="noStrike">
                <a:solidFill>
                  <a:srgbClr val="ffffff"/>
                </a:solidFill>
                <a:latin typeface="Tahoma"/>
              </a:rPr>
              <a:t>Yüksek Yoğunluk: </a:t>
            </a:r>
            <a:r>
              <a:rPr b="0" lang="tr-TR" sz="2400" spc="-1" strike="noStrike">
                <a:solidFill>
                  <a:srgbClr val="ffffff"/>
                </a:solidFill>
                <a:latin typeface="Tahoma"/>
              </a:rPr>
              <a:t>Tek bir yonga içine daha çok bellek hücresi (transistör ve kondansatör) yerleştirilebilir ve bir bellek modülünü uygulamaya koymak için gerekli olan bellek yongalarının sayısı azdır. Bu yüzden caziptir.</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2. </a:t>
            </a:r>
            <a:r>
              <a:rPr b="0" i="1" lang="tr-TR" sz="2400" spc="-1" strike="noStrike">
                <a:solidFill>
                  <a:srgbClr val="ffffff"/>
                </a:solidFill>
                <a:latin typeface="Tahoma"/>
              </a:rPr>
              <a:t>Düşük Güç Tüketimi:</a:t>
            </a:r>
            <a:r>
              <a:rPr b="0" lang="tr-TR" sz="2400" spc="-1" strike="noStrike">
                <a:solidFill>
                  <a:srgbClr val="ffffff"/>
                </a:solidFill>
                <a:latin typeface="Tahoma"/>
              </a:rPr>
              <a:t>Dinamik RAM’in bit başına güç tüketimi, static RAM’le karşılaştırıldığında oldukça düşüktür.</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3. </a:t>
            </a:r>
            <a:r>
              <a:rPr b="0" i="1" lang="tr-TR" sz="2400" spc="-1" strike="noStrike">
                <a:solidFill>
                  <a:srgbClr val="ffffff"/>
                </a:solidFill>
                <a:latin typeface="Tahoma"/>
              </a:rPr>
              <a:t>Ekonomi:</a:t>
            </a:r>
            <a:r>
              <a:rPr b="0" lang="tr-TR" sz="2400" spc="-1" strike="noStrike">
                <a:solidFill>
                  <a:srgbClr val="ffffff"/>
                </a:solidFill>
                <a:latin typeface="Tahoma"/>
              </a:rPr>
              <a:t>Dinamik RAM, static RAM’den daha ucuzdur.</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D RAM</a:t>
            </a:r>
            <a:endParaRPr b="0" lang="en-US" sz="4400" spc="-1" strike="noStrike">
              <a:solidFill>
                <a:srgbClr val="ffffcc"/>
              </a:solidFill>
              <a:latin typeface="Tahoma"/>
            </a:endParaRPr>
          </a:p>
        </p:txBody>
      </p:sp>
      <p:pic>
        <p:nvPicPr>
          <p:cNvPr id="120" name="" descr=""/>
          <p:cNvPicPr/>
          <p:nvPr/>
        </p:nvPicPr>
        <p:blipFill>
          <a:blip r:embed="rId1"/>
          <a:stretch/>
        </p:blipFill>
        <p:spPr>
          <a:xfrm>
            <a:off x="826920" y="2133720"/>
            <a:ext cx="7129800" cy="288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IT-BYTE KAVRAMI</a:t>
            </a:r>
            <a:endParaRPr b="0" lang="en-US" sz="4400" spc="-1" strike="noStrike">
              <a:solidFill>
                <a:srgbClr val="ffffcc"/>
              </a:solidFill>
              <a:latin typeface="Tahoma"/>
            </a:endParaRPr>
          </a:p>
        </p:txBody>
      </p:sp>
      <p:sp>
        <p:nvSpPr>
          <p:cNvPr id="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 Byte = 8 Bi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 Kilo Byte (KB) = 1024 Byt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 Mega Byte (MB) = 1024 Kilo Byt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 Giga Byte (GB) = 1024 Mega Byt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 Tera Byte (TB) = 1024 Giga Byt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D RAM</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DRAM 1996 yılının sonlarına doğru sistemlerde görülmeye başlandı. Daha önceki teknolojilerden farklı olarak kendisini işlemcinin zamanı ile senkronize edecek şekilde tasarlanmıştır. Bu da bellek kontrolcüsünün istenilen verinin ne zaman hazır olacağını kesin olarak bilmesini sağlıyordu. Böylece işlemcinin bellek erişimleri sırasında daha az beklemesi sağlandı.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D RAM</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DRAM modülleri kullanılacakları sisteme göre farklı hızlarda üretilmektedirler. Böylece sistemin saat hızı ile en iyi biçimde senkronize olmaktadırlar. Örnek olarak PC66 SDRAM 66MHz'de çalışır, PC100 SDRAM 100MHz'de çalışır, PC133 SDRAM 133MHz'de çalışır. 100 ve 133 sistem veri yolu hızını gösteri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DR RAM</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DR SDRAM teknolojisi gelecek vaat eden bir bellek teknolojisidi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eorik olarak DDR SDRAM bellekler, SDRAM belleğin sunduğu bant genişliğinin iki katını sunuyo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DR RAM</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DRAM'da ise bilgi alma yönü saat vuruşlarının yükselen noktalarındandır. Buradan yola çıkarak teorik olarak 133 MHz hıza sahip olan DDR bellek 266 MHz hıza sahip olan SD bellek ile aynı performansı verecekti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30" name="" descr=""/>
          <p:cNvPicPr/>
          <p:nvPr/>
        </p:nvPicPr>
        <p:blipFill>
          <a:blip r:embed="rId1"/>
          <a:stretch/>
        </p:blipFill>
        <p:spPr>
          <a:xfrm>
            <a:off x="900000" y="2060640"/>
            <a:ext cx="7344000" cy="345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DDR RAM</a:t>
            </a:r>
            <a:br>
              <a:rPr sz="4000"/>
            </a:br>
            <a:r>
              <a:rPr b="0" lang="en-US" sz="4000" spc="-1" strike="noStrike">
                <a:solidFill>
                  <a:srgbClr val="ffffcc"/>
                </a:solidFill>
                <a:latin typeface="Tahoma"/>
              </a:rPr>
              <a:t> FAYDALARI</a:t>
            </a:r>
            <a:endParaRPr b="0" lang="en-US" sz="40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DR belleğin yüksek veri transferi oranı sayesinde performans artışı, DDR RAM'in sunduğu veri bant genişliği SDRAM'den daha fazladır. 100 MHz’de çalışan SDRAM 800 MB/sn bellek bant genişliği sunarken, yine 100 MHz’de çalışan DDR RAM’in her saat vuruşunun hem yükselen hem de alçalan tarafında veri okuyabilmesi sonucunda sunduğu bellek bant genişliği ise 1600 MB/sn’dir.</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Grafik ağırlıklı dosyalar kullanılırken daha iyi performans sağlar.</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ijital ve multimedya ortamlarda daha net grafikler elde edil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DR RAM</a:t>
            </a:r>
            <a:endParaRPr b="0" lang="en-US" sz="4400" spc="-1" strike="noStrike">
              <a:solidFill>
                <a:srgbClr val="ffffcc"/>
              </a:solidFill>
              <a:latin typeface="Tahoma"/>
            </a:endParaRPr>
          </a:p>
        </p:txBody>
      </p:sp>
      <p:sp>
        <p:nvSpPr>
          <p:cNvPr id="134" name="PlaceHolder 2"/>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DIMM DDR SDRAM bellekler SDRAM’lerle hemen hemen aynı büyüklükte olsa da takıldığı soket 168 pin’den 184 pin’e çıkarıldığı için DDR belleklerle beraber yeni ana kartlarda üretilmeye başlanmıştı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5" name="" descr=""/>
          <p:cNvPicPr/>
          <p:nvPr/>
        </p:nvPicPr>
        <p:blipFill>
          <a:blip r:embed="rId1"/>
          <a:stretch/>
        </p:blipFill>
        <p:spPr>
          <a:xfrm>
            <a:off x="1116000" y="3645000"/>
            <a:ext cx="6769080" cy="295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ELLEĞİN GÖREVİ</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knik olarak </a:t>
            </a:r>
            <a:r>
              <a:rPr b="1" i="1" lang="en-US" sz="2800" spc="-1" strike="noStrike">
                <a:solidFill>
                  <a:srgbClr val="ffffff"/>
                </a:solidFill>
                <a:latin typeface="Tahoma"/>
              </a:rPr>
              <a:t>bellek, herhangi bir şekilde elektriksel verinin depolanması </a:t>
            </a:r>
            <a:r>
              <a:rPr b="0" lang="en-US" sz="2800" spc="-1" strike="noStrike">
                <a:solidFill>
                  <a:srgbClr val="ffffff"/>
                </a:solidFill>
                <a:latin typeface="Tahoma"/>
              </a:rPr>
              <a:t>işlemidir fakat günümüzde hızlı ve geçici depolama anlamında kullanılmaktadır. Eğer bilgisayarınızın işlemcisi devamlı olarak sabit diskinize erişmek zorunda kalsaydı çalışma performansı ciddi bir şekilde düşerdi. Veriler bilgisayarınızın belleğinde tutulduğu zaman işlemciniz bu verilere kat kat daha hızlı erişebili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95280" y="260280"/>
            <a:ext cx="8497800" cy="638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Tahoma"/>
              </a:rPr>
              <a:t>Şimdi belleğin çalışmasına birlikte göz atalım:</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gisayarınızı açtınız.</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gisayar açılış verilerini ROM'dan (Read Only Memory - Sadece Okunabilir Bellek) okur ve açılış testlerini (POST- Power On Self Test) bütün aygıtlarındoğru çalıştığından emin olmak için yapmaya başlar. Bu testin bir parçası olarak bellek denetleyicisi, bütün bellek adreslerini hızlı bir okuma/yazma işlemiyle test eder.</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ilgisayar basit giriş/çıkış sistemini (BIOS Basic Input/Output System) ROM'dan yük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IOS bilgisayar hakkında depolama aygıtları, açılış sırası, güvenlik, tak ve çalıştır özelliği gibi en temel bilgileri sisteme suna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404640"/>
            <a:ext cx="8229600" cy="59040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gisayar işletim sistemini sabit diskten belleğe yükler tabiki sadece sistem için hayati olan kısımlar, bellekte sistem kapanana kadar kalır. Bu işlemcinin, işletim sistemine direk ve hızlı erişimini sağla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iz herhangi bir uygulama başlattığınızda bu öncelikle belleğe yüklenir. Bellek kullanımını düzenlemek açısından sadece gerekli parçalar, bir uygulama açıldıktan sonra kullanılmak için açılan herhangi bir dosyada belleğe yükleni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şiniz bitip dosyayı kaydedip kapattığınız zaman dosya, uygun olan depolama birimine (sabit disk) yazılır ve uygulama bellekten silini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ELLEK HIZI</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ellek hızı, veri yolu genişliği (bus width) ve veri yolu hızıyla (bus speed) doğru orantılıdır.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Veri yolu genişliği belleğin işlemciye saniyede aynı anda gönderebildiği bit sayısıdır.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Veriyolu hızı ise saniyede gönderilen bit grupları miktarıdır. Bir veri yolu turu (bus cycle) verinin işlemciye gidip belleğe geri döndüğünde gerçekleşi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09:07:37Z</dcterms:created>
  <dc:creator>YONETICI</dc:creator>
  <dc:description/>
  <dc:language>en-US</dc:language>
  <cp:lastModifiedBy>YONETICI</cp:lastModifiedBy>
  <dcterms:modified xsi:type="dcterms:W3CDTF">2007-03-08T14:02:22Z</dcterms:modified>
  <cp:revision>5</cp:revision>
  <dc:subject/>
  <dc:title>BELLEKLER</dc:title>
</cp:coreProperties>
</file>